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DF77-3303-44AB-9F74-FF63D4E922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8ECB-198E-4704-924E-E3E8B155DD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4E2E-BFE4-4CBD-A57F-CD637995019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34C7-AD58-4368-87B0-3FB3570982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03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3FA0-F475-4689-AFAF-2C01AF23042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9829-78FF-461A-B0C7-65E709FFE88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9430-F287-4AEE-8BE4-D895F4D291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E3676-EC39-477F-95BD-9721B17D0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8961C-7811-4B15-AA31-BCC123ACD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ED5DD-6CB6-46C9-A871-03628A837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72CC2-2F72-4720-8E14-6E52744CB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A1186-A189-4885-9D4F-2E325B750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B59F0-F1E6-4FC5-A6E0-1C78FE93E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70969-7EC0-4630-B35C-D54610808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A9371-B54F-4CB5-86AF-A41DD4D34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FA22E-82E5-4BE1-B47E-5D71D0347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4367-194E-4883-8D61-AFFCC5BD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6ACBC-07EB-41FC-BA96-CD3B14D6D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5880A-9B8F-4123-A012-9BFFE66B6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7352-0412-421F-BBEC-7D2FC4148C7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03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4-07-06T13:56:50Z</dcterms:modified>
  <cp:revision>16</cp:revision>
  <dc:subject/>
  <dc:title>Languages</dc:title>
</cp:coreProperties>
</file>